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087-5386-4094-8CBA-3069D446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B8C3-9D97-4208-B3C9-BA12EF4D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56F1-D809-44D8-A827-6EBA443F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96B-5B03-48FB-92B7-1AA927A7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A7C-F357-4B59-9248-511203BD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8EF-D0E4-4EB5-8A79-D7FBF536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C043-A4E8-4B9B-B646-85892FDA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C16A-B96A-44B9-A913-B81B64A6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1AF-DF0B-4F8B-B76B-4EB2B500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6D4-5F00-4A10-A5CC-6B8B93B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BB74-10FA-4650-B525-96C3A8E0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4BCD-5F24-4CB5-B870-E05FDCE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52C1-6030-4037-9C95-70C4D69AD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" Target=""/><Relationship Id="rId4" Type="http://schemas.openxmlformats.org/officeDocument/2006/relationships/image" Target="../media/image1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200400"/>
            <a:ext cx="5562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ccffff"/>
                </a:solidFill>
                <a:latin typeface="Book Antiqua"/>
              </a:rPr>
              <a:t>Împărţirea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520" y="4571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ff"/>
                </a:solidFill>
                <a:latin typeface="Arial"/>
              </a:rPr>
              <a:t>Exerciţii pentru înţelege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ccffff"/>
                </a:solidFill>
                <a:latin typeface="Arial"/>
              </a:rPr>
              <a:t>algoritmului de calc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04920" y="5866920"/>
            <a:ext cx="5333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cc00"/>
                </a:solidFill>
                <a:latin typeface="Arial"/>
              </a:rPr>
              <a:t>Alege împărţirea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6324480" y="3962520"/>
            <a:ext cx="24386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4876920"/>
            <a:ext cx="24386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858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5867280" y="2895480"/>
            <a:ext cx="297180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795 : 3 </a:t>
            </a: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91320"/>
            <a:ext cx="289584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Verifică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19920" y="3124080"/>
            <a:ext cx="380880" cy="3207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477120" y="4191120"/>
            <a:ext cx="380880" cy="3204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477120" y="5105520"/>
            <a:ext cx="380880" cy="3204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019920" y="6019920"/>
            <a:ext cx="380880" cy="32040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62120" y="457200"/>
            <a:ext cx="655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5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>
            <a:hlinkClick r:id="" action="ppaction://hlinkshowjump?jump=nex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085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088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5 -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20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8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209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80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2952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62120" y="57150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>
            <a:hlinkClick r:id="rId1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32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0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331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8380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1295280" y="502920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762120" y="57150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295280" y="57913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838080" y="57913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80880" y="228600"/>
            <a:ext cx="6477120" cy="109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Alege altă împărţi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>
            <a:hlinkClick r:id="" action="ppaction://hlinkshowjump?jump=firstslide"/>
          </p:cNvPr>
          <p:cNvSpPr/>
          <p:nvPr/>
        </p:nvSpPr>
        <p:spPr>
          <a:xfrm>
            <a:off x="2133720" y="4648320"/>
            <a:ext cx="838080" cy="190476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904760"/>
              <a:gd name="textAreaBottom" fmla="*/ 1850760 h 1904760"/>
            </a:gdLst>
            <a:ahLst/>
            <a:rect l="textAreaLeft" t="textAreaTop" r="textAreaRight" b="textAreaBottom"/>
            <a:pathLst>
              <a:path w="21600" h="49080">
                <a:moveTo>
                  <a:pt x="0" y="0"/>
                </a:moveTo>
                <a:lnTo>
                  <a:pt x="21600" y="0"/>
                </a:lnTo>
                <a:lnTo>
                  <a:pt x="21600" y="49080"/>
                </a:lnTo>
                <a:lnTo>
                  <a:pt x="0" y="49080"/>
                </a:lnTo>
                <a:close/>
              </a:path>
              <a:path fill="lightenLess" w="21600" h="490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080">
                <a:moveTo>
                  <a:pt x="21600" y="0"/>
                </a:moveTo>
                <a:lnTo>
                  <a:pt x="21600" y="49080"/>
                </a:lnTo>
                <a:lnTo>
                  <a:pt x="20200" y="47680"/>
                </a:lnTo>
                <a:lnTo>
                  <a:pt x="20200" y="1400"/>
                </a:lnTo>
                <a:close/>
              </a:path>
              <a:path fill="darkenLess" w="21600" h="49080">
                <a:moveTo>
                  <a:pt x="21600" y="49080"/>
                </a:moveTo>
                <a:lnTo>
                  <a:pt x="0" y="49080"/>
                </a:lnTo>
                <a:lnTo>
                  <a:pt x="1400" y="47680"/>
                </a:lnTo>
                <a:lnTo>
                  <a:pt x="20200" y="47680"/>
                </a:lnTo>
                <a:close/>
              </a:path>
              <a:path fill="lighten" w="21600" h="49080">
                <a:moveTo>
                  <a:pt x="0" y="4908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680"/>
                </a:lnTo>
                <a:close/>
              </a:path>
              <a:path fill="darken" w="21600" h="49080">
                <a:moveTo>
                  <a:pt x="3794" y="21233"/>
                </a:moveTo>
                <a:lnTo>
                  <a:pt x="7301" y="21233"/>
                </a:lnTo>
                <a:lnTo>
                  <a:pt x="7301" y="26568"/>
                </a:lnTo>
                <a:cubicBezTo>
                  <a:pt x="7301" y="27491"/>
                  <a:pt x="8102" y="28222"/>
                  <a:pt x="9138" y="28222"/>
                </a:cubicBezTo>
                <a:lnTo>
                  <a:pt x="10800" y="28222"/>
                </a:lnTo>
                <a:cubicBezTo>
                  <a:pt x="11836" y="28222"/>
                  <a:pt x="12636" y="27491"/>
                  <a:pt x="12636" y="26568"/>
                </a:cubicBezTo>
                <a:lnTo>
                  <a:pt x="12636" y="21233"/>
                </a:lnTo>
                <a:lnTo>
                  <a:pt x="10800" y="21233"/>
                </a:lnTo>
                <a:lnTo>
                  <a:pt x="14308" y="17725"/>
                </a:lnTo>
                <a:lnTo>
                  <a:pt x="17981" y="21233"/>
                </a:lnTo>
                <a:lnTo>
                  <a:pt x="16144" y="21233"/>
                </a:lnTo>
                <a:lnTo>
                  <a:pt x="16144" y="26568"/>
                </a:lnTo>
                <a:cubicBezTo>
                  <a:pt x="16144" y="29336"/>
                  <a:pt x="13568" y="31895"/>
                  <a:pt x="10800" y="31895"/>
                </a:cubicBezTo>
                <a:lnTo>
                  <a:pt x="9138" y="31895"/>
                </a:lnTo>
                <a:cubicBezTo>
                  <a:pt x="6370" y="31895"/>
                  <a:pt x="3794" y="29336"/>
                  <a:pt x="3794" y="26568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ab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2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8 : 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45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" action="ppaction://hlinkshowjump?jump=nextslide"/>
          </p:cNvPr>
          <p:cNvSpPr/>
          <p:nvPr/>
        </p:nvSpPr>
        <p:spPr>
          <a:xfrm>
            <a:off x="3657600" y="380880"/>
            <a:ext cx="4267080" cy="868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" action="ppaction://hlinkshowjump?jump=nextslide"/>
          </p:cNvPr>
          <p:cNvSpPr/>
          <p:nvPr/>
        </p:nvSpPr>
        <p:spPr>
          <a:xfrm rot="5400000">
            <a:off x="266040" y="4152960"/>
            <a:ext cx="2895480" cy="1600200"/>
          </a:xfrm>
          <a:custGeom>
            <a:avLst/>
            <a:gdLst>
              <a:gd name="textAreaLeft" fmla="*/ 103680 w 2895480"/>
              <a:gd name="textAreaRight" fmla="*/ 2791800 w 2895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080" h="21600">
                <a:moveTo>
                  <a:pt x="0" y="0"/>
                </a:moveTo>
                <a:lnTo>
                  <a:pt x="39080" y="0"/>
                </a:lnTo>
                <a:lnTo>
                  <a:pt x="39080" y="21600"/>
                </a:lnTo>
                <a:lnTo>
                  <a:pt x="0" y="21600"/>
                </a:lnTo>
                <a:close/>
              </a:path>
              <a:path fill="lightenLess" w="39080" h="21600">
                <a:moveTo>
                  <a:pt x="0" y="0"/>
                </a:moveTo>
                <a:lnTo>
                  <a:pt x="39080" y="0"/>
                </a:lnTo>
                <a:lnTo>
                  <a:pt x="37680" y="1400"/>
                </a:lnTo>
                <a:lnTo>
                  <a:pt x="1400" y="1400"/>
                </a:lnTo>
                <a:close/>
              </a:path>
              <a:path fill="darken" w="39080" h="21600">
                <a:moveTo>
                  <a:pt x="39080" y="0"/>
                </a:moveTo>
                <a:lnTo>
                  <a:pt x="39080" y="21600"/>
                </a:lnTo>
                <a:lnTo>
                  <a:pt x="37680" y="20200"/>
                </a:lnTo>
                <a:lnTo>
                  <a:pt x="37680" y="1400"/>
                </a:lnTo>
                <a:close/>
              </a:path>
              <a:path fill="darkenLess" w="39080" h="21600">
                <a:moveTo>
                  <a:pt x="3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0" y="20200"/>
                </a:lnTo>
                <a:close/>
              </a:path>
              <a:path fill="lighten" w="3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0" h="21600">
                <a:moveTo>
                  <a:pt x="12534" y="3794"/>
                </a:moveTo>
                <a:lnTo>
                  <a:pt x="26547" y="10800"/>
                </a:lnTo>
                <a:lnTo>
                  <a:pt x="12534" y="17806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35816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în 9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e cupri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56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9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2 x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678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1828800" y="2438280"/>
            <a:ext cx="45720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 -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790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828800" y="2438280"/>
            <a:ext cx="45720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228600" y="3124080"/>
            <a:ext cx="10666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în 1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6600"/>
                </a:solidFill>
                <a:latin typeface="Arial"/>
              </a:rPr>
              <a:t>9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904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6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1907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1828800" y="2438280"/>
            <a:ext cx="83808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>
            <a:hlinkClick r:id="" action="ppaction://hlinkshowjump?jump=las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>
            <a:hlinkClick r:id="" action="ppaction://hlinkshowjump?jump=nex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0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02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024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1828800" y="1600200"/>
            <a:ext cx="53352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8 - 1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6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13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9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140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1828800" y="2438280"/>
            <a:ext cx="114300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795 : 3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16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3657600" y="380880"/>
            <a:ext cx="4267080" cy="868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 rot="5400000">
            <a:off x="266040" y="4152960"/>
            <a:ext cx="2895480" cy="1600200"/>
          </a:xfrm>
          <a:custGeom>
            <a:avLst/>
            <a:gdLst>
              <a:gd name="textAreaLeft" fmla="*/ 103680 w 2895480"/>
              <a:gd name="textAreaRight" fmla="*/ 2791800 w 2895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080" h="21600">
                <a:moveTo>
                  <a:pt x="0" y="0"/>
                </a:moveTo>
                <a:lnTo>
                  <a:pt x="39080" y="0"/>
                </a:lnTo>
                <a:lnTo>
                  <a:pt x="39080" y="21600"/>
                </a:lnTo>
                <a:lnTo>
                  <a:pt x="0" y="21600"/>
                </a:lnTo>
                <a:close/>
              </a:path>
              <a:path fill="lightenLess" w="39080" h="21600">
                <a:moveTo>
                  <a:pt x="0" y="0"/>
                </a:moveTo>
                <a:lnTo>
                  <a:pt x="39080" y="0"/>
                </a:lnTo>
                <a:lnTo>
                  <a:pt x="37680" y="1400"/>
                </a:lnTo>
                <a:lnTo>
                  <a:pt x="1400" y="1400"/>
                </a:lnTo>
                <a:close/>
              </a:path>
              <a:path fill="darken" w="39080" h="21600">
                <a:moveTo>
                  <a:pt x="39080" y="0"/>
                </a:moveTo>
                <a:lnTo>
                  <a:pt x="39080" y="21600"/>
                </a:lnTo>
                <a:lnTo>
                  <a:pt x="37680" y="20200"/>
                </a:lnTo>
                <a:lnTo>
                  <a:pt x="37680" y="1400"/>
                </a:lnTo>
                <a:close/>
              </a:path>
              <a:path fill="darkenLess" w="39080" h="21600">
                <a:moveTo>
                  <a:pt x="3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0" y="20200"/>
                </a:lnTo>
                <a:close/>
              </a:path>
              <a:path fill="lighten" w="3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0" h="21600">
                <a:moveTo>
                  <a:pt x="12534" y="3794"/>
                </a:moveTo>
                <a:lnTo>
                  <a:pt x="26547" y="10800"/>
                </a:lnTo>
                <a:lnTo>
                  <a:pt x="12534" y="17806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4 în 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25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8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259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7 x 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>
            <a:hlinkClick r:id="" action="ppaction://hlinkshowjump?jump=nex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6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37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9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380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28 - 2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7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498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" descr=""/>
          <p:cNvPicPr/>
          <p:nvPr/>
        </p:nvPicPr>
        <p:blipFill>
          <a:blip r:embed="rId4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501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12952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8380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533520" y="594360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9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>
            <a:hlinkClick r:id="rId1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0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62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2" name="" descr=""/>
          <p:cNvPicPr/>
          <p:nvPr/>
        </p:nvPicPr>
        <p:blipFill>
          <a:blip r:embed="rId3"/>
          <a:stretch/>
        </p:blipFill>
        <p:spPr>
          <a:xfrm>
            <a:off x="762012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623" name=""/>
          <p:cNvSpPr/>
          <p:nvPr/>
        </p:nvSpPr>
        <p:spPr>
          <a:xfrm>
            <a:off x="3808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304920" y="3124080"/>
            <a:ext cx="9144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380880" y="2438280"/>
            <a:ext cx="5335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838080" y="32004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3808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838080" y="38862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1828800" y="2438280"/>
            <a:ext cx="990720" cy="63360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304920" y="4572000"/>
            <a:ext cx="12189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8380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1295280" y="464832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12952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838080" y="5257800"/>
            <a:ext cx="457200" cy="63324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533520" y="5943600"/>
            <a:ext cx="13716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1295280" y="6019920"/>
            <a:ext cx="457200" cy="60948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838080" y="6019920"/>
            <a:ext cx="457200" cy="609480"/>
          </a:xfrm>
          <a:prstGeom prst="rect">
            <a:avLst/>
          </a:prstGeom>
          <a:solidFill>
            <a:srgbClr val="99ff66"/>
          </a:solidFill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3366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380880" y="228600"/>
            <a:ext cx="6477120" cy="109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Alege altă împărţi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>
            <a:hlinkClick r:id="" action="ppaction://hlinkshowjump?jump=firstslide"/>
          </p:cNvPr>
          <p:cNvSpPr/>
          <p:nvPr/>
        </p:nvSpPr>
        <p:spPr>
          <a:xfrm>
            <a:off x="2133720" y="4648320"/>
            <a:ext cx="838080" cy="190476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904760"/>
              <a:gd name="textAreaBottom" fmla="*/ 1850760 h 1904760"/>
            </a:gdLst>
            <a:ahLst/>
            <a:rect l="textAreaLeft" t="textAreaTop" r="textAreaRight" b="textAreaBottom"/>
            <a:pathLst>
              <a:path w="21600" h="49080">
                <a:moveTo>
                  <a:pt x="0" y="0"/>
                </a:moveTo>
                <a:lnTo>
                  <a:pt x="21600" y="0"/>
                </a:lnTo>
                <a:lnTo>
                  <a:pt x="21600" y="49080"/>
                </a:lnTo>
                <a:lnTo>
                  <a:pt x="0" y="49080"/>
                </a:lnTo>
                <a:close/>
              </a:path>
              <a:path fill="lightenLess" w="21600" h="490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080">
                <a:moveTo>
                  <a:pt x="21600" y="0"/>
                </a:moveTo>
                <a:lnTo>
                  <a:pt x="21600" y="49080"/>
                </a:lnTo>
                <a:lnTo>
                  <a:pt x="20200" y="47680"/>
                </a:lnTo>
                <a:lnTo>
                  <a:pt x="20200" y="1400"/>
                </a:lnTo>
                <a:close/>
              </a:path>
              <a:path fill="darkenLess" w="21600" h="49080">
                <a:moveTo>
                  <a:pt x="21600" y="49080"/>
                </a:moveTo>
                <a:lnTo>
                  <a:pt x="0" y="49080"/>
                </a:lnTo>
                <a:lnTo>
                  <a:pt x="1400" y="47680"/>
                </a:lnTo>
                <a:lnTo>
                  <a:pt x="20200" y="47680"/>
                </a:lnTo>
                <a:close/>
              </a:path>
              <a:path fill="lighten" w="21600" h="49080">
                <a:moveTo>
                  <a:pt x="0" y="4908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680"/>
                </a:lnTo>
                <a:close/>
              </a:path>
              <a:path fill="darken" w="21600" h="49080">
                <a:moveTo>
                  <a:pt x="3794" y="21233"/>
                </a:moveTo>
                <a:lnTo>
                  <a:pt x="7301" y="21233"/>
                </a:lnTo>
                <a:lnTo>
                  <a:pt x="7301" y="26568"/>
                </a:lnTo>
                <a:cubicBezTo>
                  <a:pt x="7301" y="27491"/>
                  <a:pt x="8102" y="28222"/>
                  <a:pt x="9138" y="28222"/>
                </a:cubicBezTo>
                <a:lnTo>
                  <a:pt x="10800" y="28222"/>
                </a:lnTo>
                <a:cubicBezTo>
                  <a:pt x="11836" y="28222"/>
                  <a:pt x="12636" y="27491"/>
                  <a:pt x="12636" y="26568"/>
                </a:cubicBezTo>
                <a:lnTo>
                  <a:pt x="12636" y="21233"/>
                </a:lnTo>
                <a:lnTo>
                  <a:pt x="10800" y="21233"/>
                </a:lnTo>
                <a:lnTo>
                  <a:pt x="14308" y="17725"/>
                </a:lnTo>
                <a:lnTo>
                  <a:pt x="17981" y="21233"/>
                </a:lnTo>
                <a:lnTo>
                  <a:pt x="16144" y="21233"/>
                </a:lnTo>
                <a:lnTo>
                  <a:pt x="16144" y="26568"/>
                </a:lnTo>
                <a:cubicBezTo>
                  <a:pt x="16144" y="29336"/>
                  <a:pt x="13568" y="31895"/>
                  <a:pt x="10800" y="31895"/>
                </a:cubicBezTo>
                <a:lnTo>
                  <a:pt x="9138" y="31895"/>
                </a:lnTo>
                <a:cubicBezTo>
                  <a:pt x="6370" y="31895"/>
                  <a:pt x="3794" y="29336"/>
                  <a:pt x="3794" y="26568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76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 :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7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748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>
            <a:hlinkClick r:id="" action="ppaction://hlinkshowjump?jump=nextslide"/>
          </p:cNvPr>
          <p:cNvSpPr/>
          <p:nvPr/>
        </p:nvSpPr>
        <p:spPr>
          <a:xfrm rot="5400000">
            <a:off x="266040" y="4152960"/>
            <a:ext cx="2895480" cy="1600200"/>
          </a:xfrm>
          <a:custGeom>
            <a:avLst/>
            <a:gdLst>
              <a:gd name="textAreaLeft" fmla="*/ 103680 w 2895480"/>
              <a:gd name="textAreaRight" fmla="*/ 2791800 w 2895480"/>
              <a:gd name="textAreaTop" fmla="*/ 103680 h 1600200"/>
              <a:gd name="textAreaBottom" fmla="*/ 1496520 h 1600200"/>
            </a:gdLst>
            <a:ahLst/>
            <a:rect l="textAreaLeft" t="textAreaTop" r="textAreaRight" b="textAreaBottom"/>
            <a:pathLst>
              <a:path w="39080" h="21600">
                <a:moveTo>
                  <a:pt x="0" y="0"/>
                </a:moveTo>
                <a:lnTo>
                  <a:pt x="39080" y="0"/>
                </a:lnTo>
                <a:lnTo>
                  <a:pt x="39080" y="21600"/>
                </a:lnTo>
                <a:lnTo>
                  <a:pt x="0" y="21600"/>
                </a:lnTo>
                <a:close/>
              </a:path>
              <a:path fill="lightenLess" w="39080" h="21600">
                <a:moveTo>
                  <a:pt x="0" y="0"/>
                </a:moveTo>
                <a:lnTo>
                  <a:pt x="39080" y="0"/>
                </a:lnTo>
                <a:lnTo>
                  <a:pt x="37680" y="1400"/>
                </a:lnTo>
                <a:lnTo>
                  <a:pt x="1400" y="1400"/>
                </a:lnTo>
                <a:close/>
              </a:path>
              <a:path fill="darken" w="39080" h="21600">
                <a:moveTo>
                  <a:pt x="39080" y="0"/>
                </a:moveTo>
                <a:lnTo>
                  <a:pt x="39080" y="21600"/>
                </a:lnTo>
                <a:lnTo>
                  <a:pt x="37680" y="20200"/>
                </a:lnTo>
                <a:lnTo>
                  <a:pt x="37680" y="1400"/>
                </a:lnTo>
                <a:close/>
              </a:path>
              <a:path fill="darkenLess" w="39080" h="21600">
                <a:moveTo>
                  <a:pt x="39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680" y="20200"/>
                </a:lnTo>
                <a:close/>
              </a:path>
              <a:path fill="lighten" w="39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080" h="21600">
                <a:moveTo>
                  <a:pt x="12534" y="3794"/>
                </a:moveTo>
                <a:lnTo>
                  <a:pt x="26547" y="10800"/>
                </a:lnTo>
                <a:lnTo>
                  <a:pt x="12534" y="17806"/>
                </a:lnTo>
                <a:close/>
              </a:path>
            </a:pathLst>
          </a:custGeom>
          <a:solidFill>
            <a:srgbClr val="00ff00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">
            <a:hlinkClick r:id="" action="ppaction://hlinkshowjump?jump=nextslide"/>
          </p:cNvPr>
          <p:cNvSpPr/>
          <p:nvPr/>
        </p:nvSpPr>
        <p:spPr>
          <a:xfrm>
            <a:off x="3809880" y="380880"/>
            <a:ext cx="4267440" cy="868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6 </a:t>
            </a: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în 8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8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85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0" name="" descr=""/>
          <p:cNvPicPr/>
          <p:nvPr/>
        </p:nvPicPr>
        <p:blipFill>
          <a:blip r:embed="rId5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2861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"/>
          <p:cNvSpPr/>
          <p:nvPr/>
        </p:nvSpPr>
        <p:spPr>
          <a:xfrm>
            <a:off x="0" y="15228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1 x 6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0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97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2973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8 – 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083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6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308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6 în 27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6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19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>
            <a:hlinkClick r:id="" action="ppaction://hlinkshowjump?jump=nextslide"/>
          </p:cNvPr>
          <p:cNvSpPr/>
          <p:nvPr/>
        </p:nvSpPr>
        <p:spPr>
          <a:xfrm>
            <a:off x="3657600" y="380880"/>
            <a:ext cx="4038480" cy="868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Calculează 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" descr=""/>
          <p:cNvPicPr/>
          <p:nvPr/>
        </p:nvPicPr>
        <p:blipFill>
          <a:blip r:embed="rId6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  <p:sp>
        <p:nvSpPr>
          <p:cNvPr id="3205" name=""/>
          <p:cNvSpPr/>
          <p:nvPr/>
        </p:nvSpPr>
        <p:spPr>
          <a:xfrm>
            <a:off x="1066680" y="2438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3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4 x 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>
            <a:hlinkClick r:id="rId3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>
            <a:hlinkClick r:id="" action="ppaction://hlinkshowjump?jump=nex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3" name="" descr=""/>
          <p:cNvPicPr/>
          <p:nvPr/>
        </p:nvPicPr>
        <p:blipFill>
          <a:blip r:embed="rId4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314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1" name="" descr=""/>
          <p:cNvPicPr/>
          <p:nvPr/>
        </p:nvPicPr>
        <p:blipFill>
          <a:blip r:embed="rId5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 în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272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2438280"/>
            <a:ext cx="121932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27 - 24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9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430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0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6 în 3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8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54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2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3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3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3300"/>
                </a:solidFill>
                <a:latin typeface="Arial"/>
              </a:rPr>
              <a:t>6 x 6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4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0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671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4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1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792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76212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114300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6858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36 - 36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9" name="" descr=""/>
          <p:cNvPicPr/>
          <p:nvPr/>
        </p:nvPicPr>
        <p:blipFill>
          <a:blip r:embed="rId4"/>
          <a:stretch/>
        </p:blipFill>
        <p:spPr>
          <a:xfrm>
            <a:off x="7848720" y="228600"/>
            <a:ext cx="1110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6" name="" descr=""/>
          <p:cNvPicPr/>
          <p:nvPr/>
        </p:nvPicPr>
        <p:blipFill>
          <a:blip r:embed="rId2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917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380880" y="24382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80880" y="312408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762120" y="31240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80880" y="36576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762120" y="36576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04920" y="4267080"/>
            <a:ext cx="99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380880" y="43434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76212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143000" y="434340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76212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143000" y="48769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685800" y="5486400"/>
            <a:ext cx="990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762120" y="55627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1143000" y="5562720"/>
            <a:ext cx="38088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>
            <a:hlinkClick r:id="" action="ppaction://hlinkshowjump?jump=firstslide"/>
          </p:cNvPr>
          <p:cNvSpPr/>
          <p:nvPr/>
        </p:nvSpPr>
        <p:spPr>
          <a:xfrm>
            <a:off x="2133720" y="4648320"/>
            <a:ext cx="838080" cy="190476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904760"/>
              <a:gd name="textAreaBottom" fmla="*/ 1850760 h 1904760"/>
            </a:gdLst>
            <a:ahLst/>
            <a:rect l="textAreaLeft" t="textAreaTop" r="textAreaRight" b="textAreaBottom"/>
            <a:pathLst>
              <a:path w="21600" h="49080">
                <a:moveTo>
                  <a:pt x="0" y="0"/>
                </a:moveTo>
                <a:lnTo>
                  <a:pt x="21600" y="0"/>
                </a:lnTo>
                <a:lnTo>
                  <a:pt x="21600" y="49080"/>
                </a:lnTo>
                <a:lnTo>
                  <a:pt x="0" y="49080"/>
                </a:lnTo>
                <a:close/>
              </a:path>
              <a:path fill="lightenLess" w="21600" h="490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9080">
                <a:moveTo>
                  <a:pt x="21600" y="0"/>
                </a:moveTo>
                <a:lnTo>
                  <a:pt x="21600" y="49080"/>
                </a:lnTo>
                <a:lnTo>
                  <a:pt x="20200" y="47680"/>
                </a:lnTo>
                <a:lnTo>
                  <a:pt x="20200" y="1400"/>
                </a:lnTo>
                <a:close/>
              </a:path>
              <a:path fill="darkenLess" w="21600" h="49080">
                <a:moveTo>
                  <a:pt x="21600" y="49080"/>
                </a:moveTo>
                <a:lnTo>
                  <a:pt x="0" y="49080"/>
                </a:lnTo>
                <a:lnTo>
                  <a:pt x="1400" y="47680"/>
                </a:lnTo>
                <a:lnTo>
                  <a:pt x="20200" y="47680"/>
                </a:lnTo>
                <a:close/>
              </a:path>
              <a:path fill="lighten" w="21600" h="49080">
                <a:moveTo>
                  <a:pt x="0" y="49080"/>
                </a:moveTo>
                <a:lnTo>
                  <a:pt x="0" y="0"/>
                </a:lnTo>
                <a:lnTo>
                  <a:pt x="1400" y="1400"/>
                </a:lnTo>
                <a:lnTo>
                  <a:pt x="1400" y="47680"/>
                </a:lnTo>
                <a:close/>
              </a:path>
              <a:path fill="darken" w="21600" h="49080">
                <a:moveTo>
                  <a:pt x="3794" y="21233"/>
                </a:moveTo>
                <a:lnTo>
                  <a:pt x="7301" y="21233"/>
                </a:lnTo>
                <a:lnTo>
                  <a:pt x="7301" y="26568"/>
                </a:lnTo>
                <a:cubicBezTo>
                  <a:pt x="7301" y="27491"/>
                  <a:pt x="8102" y="28222"/>
                  <a:pt x="9138" y="28222"/>
                </a:cubicBezTo>
                <a:lnTo>
                  <a:pt x="10800" y="28222"/>
                </a:lnTo>
                <a:cubicBezTo>
                  <a:pt x="11836" y="28222"/>
                  <a:pt x="12636" y="27491"/>
                  <a:pt x="12636" y="26568"/>
                </a:cubicBezTo>
                <a:lnTo>
                  <a:pt x="12636" y="21233"/>
                </a:lnTo>
                <a:lnTo>
                  <a:pt x="10800" y="21233"/>
                </a:lnTo>
                <a:lnTo>
                  <a:pt x="14308" y="17725"/>
                </a:lnTo>
                <a:lnTo>
                  <a:pt x="17981" y="21233"/>
                </a:lnTo>
                <a:lnTo>
                  <a:pt x="16144" y="21233"/>
                </a:lnTo>
                <a:lnTo>
                  <a:pt x="16144" y="26568"/>
                </a:lnTo>
                <a:cubicBezTo>
                  <a:pt x="16144" y="29336"/>
                  <a:pt x="13568" y="31895"/>
                  <a:pt x="10800" y="31895"/>
                </a:cubicBezTo>
                <a:lnTo>
                  <a:pt x="9138" y="31895"/>
                </a:lnTo>
                <a:cubicBezTo>
                  <a:pt x="6370" y="31895"/>
                  <a:pt x="3794" y="29336"/>
                  <a:pt x="3794" y="26568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14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04920" y="457200"/>
            <a:ext cx="6476760" cy="868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4800" spc="-1" strike="noStrike">
                <a:solidFill>
                  <a:srgbClr val="336600"/>
                </a:solidFill>
                <a:latin typeface="Arial"/>
              </a:rPr>
              <a:t>Alege altă împărţire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6" name="" descr=""/>
          <p:cNvPicPr/>
          <p:nvPr/>
        </p:nvPicPr>
        <p:blipFill>
          <a:blip r:embed="rId5"/>
          <a:stretch/>
        </p:blipFill>
        <p:spPr>
          <a:xfrm>
            <a:off x="7848720" y="457200"/>
            <a:ext cx="888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3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7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7" y="3985"/>
                </a:lnTo>
                <a:lnTo>
                  <a:pt x="21580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7" y="18155"/>
                </a:lnTo>
                <a:cubicBezTo>
                  <a:pt x="9970" y="18155"/>
                  <a:pt x="7393" y="15596"/>
                  <a:pt x="7393" y="12828"/>
                </a:cubicBezTo>
                <a:close/>
              </a:path>
            </a:pathLst>
          </a:custGeom>
          <a:solidFill>
            <a:srgbClr val="00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">
            <a:hlinkClick r:id="" action="ppaction://hlinkshowjump?jump=previousslide"/>
          </p:cNvPr>
          <p:cNvSpPr/>
          <p:nvPr/>
        </p:nvSpPr>
        <p:spPr>
          <a:xfrm>
            <a:off x="6477120" y="4419720"/>
            <a:ext cx="2286000" cy="2057400"/>
          </a:xfrm>
          <a:custGeom>
            <a:avLst/>
            <a:gdLst>
              <a:gd name="textAreaLeft" fmla="*/ 133200 w 2286000"/>
              <a:gd name="textAreaRight" fmla="*/ 2152800 w 2286000"/>
              <a:gd name="textAreaTop" fmla="*/ 133200 h 2057400"/>
              <a:gd name="textAreaBottom" fmla="*/ 1924200 h 2057400"/>
            </a:gdLst>
            <a:ahLst/>
            <a:rect l="textAreaLeft" t="textAreaTop" r="textAreaRight" b="textAreaBottom"/>
            <a:pathLst>
              <a:path w="24000" h="21600">
                <a:moveTo>
                  <a:pt x="0" y="0"/>
                </a:moveTo>
                <a:lnTo>
                  <a:pt x="24000" y="0"/>
                </a:lnTo>
                <a:lnTo>
                  <a:pt x="24000" y="21600"/>
                </a:lnTo>
                <a:lnTo>
                  <a:pt x="0" y="21600"/>
                </a:lnTo>
                <a:close/>
              </a:path>
              <a:path fill="lightenLess" w="24000" h="21600">
                <a:moveTo>
                  <a:pt x="0" y="0"/>
                </a:moveTo>
                <a:lnTo>
                  <a:pt x="24000" y="0"/>
                </a:lnTo>
                <a:lnTo>
                  <a:pt x="22600" y="1400"/>
                </a:lnTo>
                <a:lnTo>
                  <a:pt x="1400" y="1400"/>
                </a:lnTo>
                <a:close/>
              </a:path>
              <a:path fill="darken" w="24000" h="21600">
                <a:moveTo>
                  <a:pt x="24000" y="0"/>
                </a:moveTo>
                <a:lnTo>
                  <a:pt x="24000" y="21600"/>
                </a:lnTo>
                <a:lnTo>
                  <a:pt x="22600" y="20200"/>
                </a:lnTo>
                <a:lnTo>
                  <a:pt x="22600" y="1400"/>
                </a:lnTo>
                <a:close/>
              </a:path>
              <a:path fill="darkenLess" w="24000" h="21600">
                <a:moveTo>
                  <a:pt x="24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0" y="20200"/>
                </a:lnTo>
                <a:close/>
              </a:path>
              <a:path fill="lighten" w="24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0" h="21600">
                <a:moveTo>
                  <a:pt x="4993" y="7493"/>
                </a:moveTo>
                <a:lnTo>
                  <a:pt x="8501" y="7493"/>
                </a:lnTo>
                <a:lnTo>
                  <a:pt x="8501" y="12828"/>
                </a:lnTo>
                <a:cubicBezTo>
                  <a:pt x="8501" y="13751"/>
                  <a:pt x="9302" y="14482"/>
                  <a:pt x="10337" y="14482"/>
                </a:cubicBezTo>
                <a:lnTo>
                  <a:pt x="12000" y="14482"/>
                </a:lnTo>
                <a:cubicBezTo>
                  <a:pt x="13036" y="14482"/>
                  <a:pt x="13836" y="13751"/>
                  <a:pt x="13836" y="12828"/>
                </a:cubicBezTo>
                <a:lnTo>
                  <a:pt x="13836" y="7493"/>
                </a:lnTo>
                <a:lnTo>
                  <a:pt x="12000" y="7493"/>
                </a:lnTo>
                <a:lnTo>
                  <a:pt x="15507" y="3985"/>
                </a:lnTo>
                <a:lnTo>
                  <a:pt x="19180" y="7493"/>
                </a:lnTo>
                <a:lnTo>
                  <a:pt x="17344" y="7493"/>
                </a:lnTo>
                <a:lnTo>
                  <a:pt x="17344" y="12828"/>
                </a:lnTo>
                <a:cubicBezTo>
                  <a:pt x="17344" y="15596"/>
                  <a:pt x="14768" y="18155"/>
                  <a:pt x="12000" y="18155"/>
                </a:cubicBezTo>
                <a:lnTo>
                  <a:pt x="10337" y="18155"/>
                </a:lnTo>
                <a:cubicBezTo>
                  <a:pt x="7570" y="18155"/>
                  <a:pt x="4993" y="15596"/>
                  <a:pt x="4993" y="1282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"/>
          <p:cNvSpPr/>
          <p:nvPr/>
        </p:nvSpPr>
        <p:spPr>
          <a:xfrm>
            <a:off x="304920" y="4952880"/>
            <a:ext cx="1828800" cy="1557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0" name="" descr=""/>
          <p:cNvPicPr/>
          <p:nvPr/>
        </p:nvPicPr>
        <p:blipFill>
          <a:blip r:embed="rId1"/>
          <a:stretch/>
        </p:blipFill>
        <p:spPr>
          <a:xfrm>
            <a:off x="3048120" y="3809880"/>
            <a:ext cx="2595600" cy="26672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3941" name=""/>
          <p:cNvSpPr txBox="1"/>
          <p:nvPr/>
        </p:nvSpPr>
        <p:spPr>
          <a:xfrm>
            <a:off x="380880" y="1371600"/>
            <a:ext cx="22860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2 6 5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      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609480" y="2819520"/>
            <a:ext cx="38124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"/>
          <p:cNvSpPr/>
          <p:nvPr/>
        </p:nvSpPr>
        <p:spPr>
          <a:xfrm>
            <a:off x="1523880" y="2819520"/>
            <a:ext cx="38124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"/>
          <p:cNvSpPr/>
          <p:nvPr/>
        </p:nvSpPr>
        <p:spPr>
          <a:xfrm>
            <a:off x="1066680" y="2819520"/>
            <a:ext cx="381240" cy="53316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"/>
          <p:cNvSpPr/>
          <p:nvPr/>
        </p:nvSpPr>
        <p:spPr>
          <a:xfrm>
            <a:off x="3200400" y="1447920"/>
            <a:ext cx="228600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2 4 7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      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"/>
          <p:cNvSpPr/>
          <p:nvPr/>
        </p:nvSpPr>
        <p:spPr>
          <a:xfrm>
            <a:off x="4343400" y="28954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3886200" y="28954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3429000" y="2895480"/>
            <a:ext cx="38088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248520" y="1523880"/>
            <a:ext cx="228600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1 4 6 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       </a:t>
            </a:r>
            <a:r>
              <a:rPr b="1" lang="ro-RO" sz="4000" spc="-1" strike="noStrike" u="sng">
                <a:solidFill>
                  <a:srgbClr val="cc3300"/>
                </a:solidFill>
                <a:uFillTx/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7467480" y="29718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"/>
          <p:cNvSpPr/>
          <p:nvPr/>
        </p:nvSpPr>
        <p:spPr>
          <a:xfrm>
            <a:off x="7010280" y="29718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"/>
          <p:cNvSpPr/>
          <p:nvPr/>
        </p:nvSpPr>
        <p:spPr>
          <a:xfrm>
            <a:off x="6553080" y="2971800"/>
            <a:ext cx="381240" cy="533520"/>
          </a:xfrm>
          <a:prstGeom prst="rect">
            <a:avLst/>
          </a:prstGeom>
          <a:solidFill>
            <a:srgbClr val="99ff66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"/>
          <p:cNvSpPr/>
          <p:nvPr/>
        </p:nvSpPr>
        <p:spPr>
          <a:xfrm>
            <a:off x="304920" y="380880"/>
            <a:ext cx="243828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795 : 3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"/>
          <p:cNvSpPr/>
          <p:nvPr/>
        </p:nvSpPr>
        <p:spPr>
          <a:xfrm>
            <a:off x="3048120" y="380880"/>
            <a:ext cx="243828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988 :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"/>
          <p:cNvSpPr/>
          <p:nvPr/>
        </p:nvSpPr>
        <p:spPr>
          <a:xfrm>
            <a:off x="6248520" y="380880"/>
            <a:ext cx="2438280" cy="6858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cc9900"/>
              </a:gs>
            </a:gsLst>
            <a:lin ang="5400000"/>
          </a:gradFill>
          <a:ln w="572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876 :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3" y="7493"/>
                </a:moveTo>
                <a:lnTo>
                  <a:pt x="10901" y="7493"/>
                </a:lnTo>
                <a:lnTo>
                  <a:pt x="10901" y="12828"/>
                </a:lnTo>
                <a:cubicBezTo>
                  <a:pt x="10901" y="13751"/>
                  <a:pt x="11702" y="14482"/>
                  <a:pt x="12737" y="14482"/>
                </a:cubicBezTo>
                <a:lnTo>
                  <a:pt x="14400" y="14482"/>
                </a:lnTo>
                <a:cubicBezTo>
                  <a:pt x="15436" y="14482"/>
                  <a:pt x="16236" y="13751"/>
                  <a:pt x="16236" y="12828"/>
                </a:cubicBezTo>
                <a:lnTo>
                  <a:pt x="16236" y="7493"/>
                </a:lnTo>
                <a:lnTo>
                  <a:pt x="14400" y="7493"/>
                </a:lnTo>
                <a:lnTo>
                  <a:pt x="17907" y="3985"/>
                </a:lnTo>
                <a:lnTo>
                  <a:pt x="21580" y="7493"/>
                </a:lnTo>
                <a:lnTo>
                  <a:pt x="19744" y="7493"/>
                </a:lnTo>
                <a:lnTo>
                  <a:pt x="19744" y="12828"/>
                </a:lnTo>
                <a:cubicBezTo>
                  <a:pt x="19744" y="15596"/>
                  <a:pt x="17168" y="18155"/>
                  <a:pt x="14400" y="18155"/>
                </a:cubicBezTo>
                <a:lnTo>
                  <a:pt x="12737" y="18155"/>
                </a:lnTo>
                <a:cubicBezTo>
                  <a:pt x="9970" y="18155"/>
                  <a:pt x="7393" y="15596"/>
                  <a:pt x="7393" y="12828"/>
                </a:cubicBezTo>
                <a:close/>
              </a:path>
            </a:pathLst>
          </a:cu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7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705720" y="436680"/>
            <a:ext cx="1981080" cy="1711080"/>
          </a:xfrm>
          <a:prstGeom prst="rect">
            <a:avLst/>
          </a:prstGeom>
          <a:ln w="38160">
            <a:solidFill>
              <a:srgbClr val="00ffff"/>
            </a:solidFill>
            <a:miter/>
          </a:ln>
        </p:spPr>
      </p:pic>
      <p:sp>
        <p:nvSpPr>
          <p:cNvPr id="3958" name=""/>
          <p:cNvSpPr txBox="1"/>
          <p:nvPr/>
        </p:nvSpPr>
        <p:spPr>
          <a:xfrm rot="1253400">
            <a:off x="533520" y="1981080"/>
            <a:ext cx="7962840" cy="157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9" name="">
            <a:hlinkClick r:id="" action="ppaction://hlinkshowjump?jump=previousslide"/>
          </p:cNvPr>
          <p:cNvSpPr/>
          <p:nvPr/>
        </p:nvSpPr>
        <p:spPr>
          <a:xfrm>
            <a:off x="3124080" y="4114800"/>
            <a:ext cx="2667240" cy="2209680"/>
          </a:xfrm>
          <a:custGeom>
            <a:avLst/>
            <a:gdLst>
              <a:gd name="textAreaLeft" fmla="*/ 142920 w 2667240"/>
              <a:gd name="textAreaRight" fmla="*/ 2524320 w 2667240"/>
              <a:gd name="textAreaTop" fmla="*/ 142920 h 2209680"/>
              <a:gd name="textAreaBottom" fmla="*/ 2066760 h 220968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6030" y="7493"/>
                </a:moveTo>
                <a:lnTo>
                  <a:pt x="9537" y="7493"/>
                </a:lnTo>
                <a:lnTo>
                  <a:pt x="9537" y="12828"/>
                </a:lnTo>
                <a:cubicBezTo>
                  <a:pt x="9537" y="13751"/>
                  <a:pt x="10338" y="14482"/>
                  <a:pt x="11374" y="14482"/>
                </a:cubicBezTo>
                <a:lnTo>
                  <a:pt x="13036" y="14482"/>
                </a:lnTo>
                <a:cubicBezTo>
                  <a:pt x="14072" y="14482"/>
                  <a:pt x="14872" y="13751"/>
                  <a:pt x="14872" y="12828"/>
                </a:cubicBezTo>
                <a:lnTo>
                  <a:pt x="14872" y="7493"/>
                </a:lnTo>
                <a:lnTo>
                  <a:pt x="13036" y="7493"/>
                </a:lnTo>
                <a:lnTo>
                  <a:pt x="16544" y="3985"/>
                </a:lnTo>
                <a:lnTo>
                  <a:pt x="20217" y="7493"/>
                </a:lnTo>
                <a:lnTo>
                  <a:pt x="18380" y="7493"/>
                </a:lnTo>
                <a:lnTo>
                  <a:pt x="18380" y="12828"/>
                </a:lnTo>
                <a:cubicBezTo>
                  <a:pt x="18380" y="15596"/>
                  <a:pt x="15804" y="18155"/>
                  <a:pt x="13036" y="18155"/>
                </a:cubicBezTo>
                <a:lnTo>
                  <a:pt x="11374" y="18155"/>
                </a:lnTo>
                <a:cubicBezTo>
                  <a:pt x="8606" y="18155"/>
                  <a:pt x="6030" y="15596"/>
                  <a:pt x="6030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 înce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data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"/>
          <p:cNvSpPr/>
          <p:nvPr/>
        </p:nvSpPr>
        <p:spPr>
          <a:xfrm>
            <a:off x="457200" y="4876920"/>
            <a:ext cx="1600200" cy="302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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7086600" y="4876920"/>
            <a:ext cx="1600200" cy="302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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2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384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7 –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 în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609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726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9 -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las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843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846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066680" y="23623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-152280" y="0"/>
            <a:ext cx="9296280" cy="6858000"/>
          </a:xfrm>
          <a:custGeom>
            <a:avLst/>
            <a:gdLst>
              <a:gd name="textAreaLeft" fmla="*/ 444240 w 9296280"/>
              <a:gd name="textAreaRight" fmla="*/ 8852040 w 929628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 în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523520"/>
            <a:ext cx="13716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3300"/>
                </a:solidFill>
                <a:latin typeface="Arial"/>
              </a:rPr>
              <a:t>7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>
            <a:hlinkClick r:id="" action="ppaction://hlinkshowjump?jump=las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>
            <a:hlinkClick r:id="" action="ppaction://hlinkshowjump?jump=las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>
            <a:hlinkClick r:id="rId2" action="ppaction://hlinksldjump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" action="ppaction://hlinkshowjump?jump=las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>
            <a:hlinkClick r:id="" action="ppaction://hlinkshowjump?jump=las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>
            <a:hlinkClick r:id="" action="ppaction://hlinkshowjump?jump=las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" action="ppaction://hlinkshowjump?jump=las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las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" action="ppaction://hlinkshowjump?jump=las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las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" action="ppaction://hlinkshowjump?jump=las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>
            <a:hlinkClick r:id="" action="ppaction://hlinkshowjump?jump=las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>
            <a:hlinkClick r:id="" action="ppaction://hlinkshowjump?jump=las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las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las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" action="ppaction://hlinkshowjump?jump=las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" action="ppaction://hlinkshowjump?jump=las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las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" action="ppaction://hlinkshowjump?jump=las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lastslide"/>
          </p:cNvPr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lastslide"/>
          </p:cNvPr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" action="ppaction://hlinkshowjump?jump=lastslide"/>
          </p:cNvPr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" action="ppaction://hlinkshowjump?jump=lastslide"/>
          </p:cNvPr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" action="ppaction://hlinkshowjump?jump=lastslide"/>
          </p:cNvPr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" action="ppaction://hlinkshowjump?jump=lastslide"/>
          </p:cNvPr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lastslide"/>
          </p:cNvPr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>
            <a:hlinkClick r:id="" action="ppaction://hlinkshowjump?jump=lastslide"/>
          </p:cNvPr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>
            <a:hlinkClick r:id="" action="ppaction://hlinkshowjump?jump=lastslide"/>
          </p:cNvPr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>
            <a:hlinkClick r:id="" action="ppaction://hlinkshowjump?jump=lastslide"/>
          </p:cNvPr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" action="ppaction://hlinkshowjump?jump=lastslide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>
            <a:hlinkClick r:id="" action="ppaction://hlinkshowjump?jump=lastslide"/>
          </p:cNvPr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>
            <a:hlinkClick r:id="" action="ppaction://hlinkshowjump?jump=lastslide"/>
          </p:cNvPr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>
            <a:hlinkClick r:id="" action="ppaction://hlinkshowjump?jump=lastslide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" action="ppaction://hlinkshowjump?jump=lastslide"/>
          </p:cNvPr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>
            <a:hlinkClick r:id="" action="ppaction://hlinkshowjump?jump=lastslide"/>
          </p:cNvPr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>
            <a:hlinkClick r:id="" action="ppaction://hlinkshowjump?jump=las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>
            <a:hlinkClick r:id="" action="ppaction://hlinkshowjump?jump=las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" action="ppaction://hlinkshowjump?jump=las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las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las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las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las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las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" action="ppaction://hlinkshowjump?jump=las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>
            <a:hlinkClick r:id="" action="ppaction://hlinkshowjump?jump=las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" action="ppaction://hlinkshowjump?jump=las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" action="ppaction://hlinkshowjump?jump=las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" action="ppaction://hlinkshowjump?jump=las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>
            <a:hlinkClick r:id="" action="ppaction://hlinkshowjump?jump=las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>
            <a:hlinkClick r:id="" action="ppaction://hlinkshowjump?jump=las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las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" action="ppaction://hlinkshowjump?jump=las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" action="ppaction://hlinkshowjump?jump=las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>
            <a:hlinkClick r:id="" action="ppaction://hlinkshowjump?jump=las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" action="ppaction://hlinkshowjump?jump=las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>
            <a:hlinkClick r:id="" action="ppaction://hlinkshowjump?jump=las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>
            <a:hlinkClick r:id="" action="ppaction://hlinkshowjump?jump=las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" action="ppaction://hlinkshowjump?jump=las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>
            <a:hlinkClick r:id="" action="ppaction://hlinkshowjump?jump=las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las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las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las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las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las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" action="ppaction://hlinkshowjump?jump=las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las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" action="ppaction://hlinkshowjump?jump=las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" action="ppaction://hlinkshowjump?jump=las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" action="ppaction://hlinkshowjump?jump=las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las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" action="ppaction://hlinkshowjump?jump=las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>
            <a:hlinkClick r:id="" action="ppaction://hlinkshowjump?jump=las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las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las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las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" action="ppaction://hlinkshowjump?jump=las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" action="ppaction://hlinkshowjump?jump=las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las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>
            <a:hlinkClick r:id="" action="ppaction://hlinkshowjump?jump=las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" action="ppaction://hlinkshowjump?jump=las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" action="ppaction://hlinkshowjump?jump=las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" action="ppaction://hlinkshowjump?jump=las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" action="ppaction://hlinkshowjump?jump=las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las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" action="ppaction://hlinkshowjump?jump=las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" action="ppaction://hlinkshowjump?jump=las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las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" action="ppaction://hlinkshowjump?jump=las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" action="ppaction://hlinkshowjump?jump=las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las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" action="ppaction://hlinkshowjump?jump=las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>
            <a:hlinkClick r:id="" action="ppaction://hlinkshowjump?jump=las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" action="ppaction://hlinkshowjump?jump=las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>
            <a:hlinkClick r:id="" action="ppaction://hlinkshowjump?jump=las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>
            <a:hlinkClick r:id="" action="ppaction://hlinkshowjump?jump=las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>
            <a:hlinkClick r:id="" action="ppaction://hlinkshowjump?jump=las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las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>
            <a:hlinkClick r:id="" action="ppaction://hlinkshowjump?jump=las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" action="ppaction://hlinkshowjump?jump=las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905120" y="1600200"/>
            <a:ext cx="533160" cy="633240"/>
          </a:xfrm>
          <a:prstGeom prst="rect">
            <a:avLst/>
          </a:prstGeom>
          <a:solidFill>
            <a:srgbClr val="333399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04920" y="236232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752480" y="15238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4038480" y="6172200"/>
            <a:ext cx="4419720" cy="404640"/>
          </a:xfrm>
          <a:prstGeom prst="rect">
            <a:avLst/>
          </a:prstGeom>
          <a:solidFill>
            <a:srgbClr val="cc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Alege numărul de mai 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3"/>
          <a:stretch/>
        </p:blipFill>
        <p:spPr>
          <a:xfrm>
            <a:off x="7696080" y="6248520"/>
            <a:ext cx="304920" cy="257040"/>
          </a:xfrm>
          <a:prstGeom prst="rect">
            <a:avLst/>
          </a:prstGeom>
          <a:ln w="28440">
            <a:solidFill>
              <a:srgbClr val="336600"/>
            </a:solidFill>
            <a:miter/>
          </a:ln>
        </p:spPr>
      </p:pic>
      <p:sp>
        <p:nvSpPr>
          <p:cNvPr id="963" name="">
            <a:hlinkClick r:id="" action="ppaction://hlinkshowjump?jump=lastslide"/>
          </p:cNvPr>
          <p:cNvSpPr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191120" y="304920"/>
            <a:ext cx="3200400" cy="862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OREC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!!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C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O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T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N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6600"/>
                </a:solidFill>
                <a:latin typeface="Arial"/>
              </a:rPr>
              <a:t>U</a:t>
            </a:r>
            <a:r>
              <a:rPr b="1" lang="ro-RO" sz="2000" spc="-1" strike="noStrike">
                <a:solidFill>
                  <a:srgbClr val="336600"/>
                </a:solidFill>
                <a:latin typeface="Arial"/>
              </a:rPr>
              <a:t> Ă  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5" name="" descr=""/>
          <p:cNvPicPr/>
          <p:nvPr/>
        </p:nvPicPr>
        <p:blipFill>
          <a:blip r:embed="rId4"/>
          <a:stretch/>
        </p:blipFill>
        <p:spPr>
          <a:xfrm>
            <a:off x="7772400" y="152280"/>
            <a:ext cx="1185840" cy="1219320"/>
          </a:xfrm>
          <a:prstGeom prst="rect">
            <a:avLst/>
          </a:prstGeom>
          <a:ln w="0">
            <a:noFill/>
          </a:ln>
        </p:spPr>
      </p:pic>
      <p:sp>
        <p:nvSpPr>
          <p:cNvPr id="966" name=""/>
          <p:cNvSpPr/>
          <p:nvPr/>
        </p:nvSpPr>
        <p:spPr>
          <a:xfrm>
            <a:off x="380880" y="24382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04920" y="3048120"/>
            <a:ext cx="838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808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838080" y="3124080"/>
            <a:ext cx="457200" cy="60984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523880" y="2362320"/>
            <a:ext cx="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8380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80880" y="37339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28600" y="4343400"/>
            <a:ext cx="1143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8380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95280" y="4419720"/>
            <a:ext cx="457200" cy="609480"/>
          </a:xfrm>
          <a:prstGeom prst="rect">
            <a:avLst/>
          </a:prstGeom>
          <a:solidFill>
            <a:srgbClr val="00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28800" y="2438280"/>
            <a:ext cx="1066680" cy="6098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33:38Z</dcterms:created>
  <dc:creator>Paulis</dc:creator>
  <dc:description/>
  <dc:language>en-US</dc:language>
  <cp:lastModifiedBy>IULIA</cp:lastModifiedBy>
  <dcterms:modified xsi:type="dcterms:W3CDTF">2010-01-04T18:52:28Z</dcterms:modified>
  <cp:revision>10</cp:revision>
  <dc:subject>Exercitii impartire</dc:subject>
  <dc:title>Alege o impartire</dc:title>
</cp:coreProperties>
</file>